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96A2-B690-4406-BEAF-CE37056A3F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479-93B7-47AF-AB9A-BFF96538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D8D-AA11-4928-A6E5-74B8746B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82C-5507-4D83-A7EF-A4A39E4B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F04-4849-4D2A-8ACC-6EA2ACC5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263-0691-4E59-8F0F-FF364293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0ED-B803-4A70-968D-47A60AF0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7FE-9EE2-4733-8CF4-1DC85ADE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07F-28A4-48AD-9C5E-68FD9B7C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900-359D-4B3B-AF0D-4F7E9424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78A-BEDA-42BD-AE13-C8D9DDA8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BB3-CEC8-4E2F-961D-EFA452E5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0C6-3713-4445-914C-D4D80C6F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7B77-7487-4A8B-B524-216F63821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2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LEGION</cp:lastModifiedBy>
  <dcterms:modified xsi:type="dcterms:W3CDTF">2017-07-06T06:32:40Z</dcterms:modified>
  <cp:revision>10</cp:revision>
  <dc:subject/>
  <dc:title>Directly and inversely proportional</dc:title>
</cp:coreProperties>
</file>